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629B91-93C4-4AC5-A348-87FB11AE87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280" y="4369320"/>
            <a:ext cx="8839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13657-44FE-4313-AE32-CA8AD09BF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3135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3135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280" y="4369320"/>
            <a:ext cx="43135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800" y="4369320"/>
            <a:ext cx="43135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41580-19B7-4BC4-A377-88D082A62D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2846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41000" y="1981080"/>
            <a:ext cx="2846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30080" y="1981080"/>
            <a:ext cx="2846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280" y="4369320"/>
            <a:ext cx="2846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41000" y="4369320"/>
            <a:ext cx="2846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30080" y="4369320"/>
            <a:ext cx="2846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2B83D-4C2F-41EE-BF5B-86C3FE6457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280" y="198108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5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34582-A759-48FA-9B29-06AA05AAF71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4CD12E-D629-4708-8DA7-98E5A58AA5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313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313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D84E5-E4BE-477F-A4F7-03C456E47F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E95A9-26F5-4A19-83FF-E8F9F0E003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04760" y="457200"/>
            <a:ext cx="655308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5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5797D-886D-44C6-88BE-C7AB68E45F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3135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313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280" y="4369320"/>
            <a:ext cx="43135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ECE00-CF8A-4F38-90C4-B5A43A2CB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3135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3135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800" y="4369320"/>
            <a:ext cx="43135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56C265-80D1-469B-A650-7CC87F5706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43135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800" y="1981080"/>
            <a:ext cx="431352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280" y="4369320"/>
            <a:ext cx="88394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lnSpc>
                <a:spcPct val="115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F237-67C5-4481-AE07-2FC68243E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80880" y="228600"/>
            <a:ext cx="8458200" cy="1447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660066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280" y="198108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 fontScale="92000"/>
          </a:bodyPr>
          <a:p>
            <a:pPr marL="315360" indent="-315360">
              <a:lnSpc>
                <a:spcPct val="115000"/>
              </a:lnSpc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683280" indent="-262800">
              <a:lnSpc>
                <a:spcPct val="115000"/>
              </a:lnSpc>
              <a:spcBef>
                <a:spcPts val="119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2" marL="1051560" indent="-210240">
              <a:lnSpc>
                <a:spcPct val="115000"/>
              </a:lnSpc>
              <a:spcBef>
                <a:spcPts val="1199"/>
              </a:spcBef>
              <a:buClr>
                <a:srgbClr val="ffff66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3" marL="1472040" indent="-210240">
              <a:lnSpc>
                <a:spcPct val="115000"/>
              </a:lnSpc>
              <a:spcBef>
                <a:spcPts val="1199"/>
              </a:spcBef>
              <a:buClr>
                <a:srgbClr val="ff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4" marL="1892520" indent="-210240">
              <a:lnSpc>
                <a:spcPct val="115000"/>
              </a:lnSpc>
              <a:spcBef>
                <a:spcPts val="1199"/>
              </a:spcBef>
              <a:buClr>
                <a:srgbClr val="ff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5" marL="1892520" indent="-21024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6" marL="1892520" indent="-210240">
              <a:lnSpc>
                <a:spcPct val="115000"/>
              </a:lnSpc>
              <a:spcBef>
                <a:spcPts val="11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685800" y="457200"/>
            <a:ext cx="1143000" cy="95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552720"/>
            <a:ext cx="1905120" cy="30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C5BD6-6298-459E-BD7D-8F8E5B43E0F9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380880" y="4114800"/>
            <a:ext cx="8458200" cy="2133720"/>
            <a:chOff x="380880" y="4114800"/>
            <a:chExt cx="8458200" cy="2133720"/>
          </a:xfrm>
        </p:grpSpPr>
        <p:sp>
          <p:nvSpPr>
            <p:cNvPr id="43" name=""/>
            <p:cNvSpPr/>
            <p:nvPr/>
          </p:nvSpPr>
          <p:spPr>
            <a:xfrm>
              <a:off x="380880" y="4114800"/>
              <a:ext cx="8458200" cy="2133720"/>
            </a:xfrm>
            <a:prstGeom prst="bevel">
              <a:avLst>
                <a:gd name="adj" fmla="val 12500"/>
              </a:avLst>
            </a:prstGeom>
            <a:gradFill rotWithShape="0">
              <a:gsLst>
                <a:gs pos="0">
                  <a:srgbClr val="660066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33520" y="4343400"/>
              <a:ext cx="8076960" cy="17082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9933"/>
                  </a:solidFill>
                  <a:latin typeface="Tahoma"/>
                </a:rPr>
                <a:t>Northwest Projects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9933"/>
                  </a:solidFill>
                  <a:latin typeface="Tahoma"/>
                </a:rPr>
                <a:t>Citizen Survey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" name=""/>
          <p:cNvGrpSpPr/>
          <p:nvPr/>
        </p:nvGrpSpPr>
        <p:grpSpPr>
          <a:xfrm>
            <a:off x="3086280" y="914400"/>
            <a:ext cx="2971800" cy="2629080"/>
            <a:chOff x="3086280" y="914400"/>
            <a:chExt cx="2971800" cy="2629080"/>
          </a:xfrm>
        </p:grpSpPr>
        <p:sp>
          <p:nvSpPr>
            <p:cNvPr id="46" name=""/>
            <p:cNvSpPr/>
            <p:nvPr/>
          </p:nvSpPr>
          <p:spPr>
            <a:xfrm>
              <a:off x="3086280" y="914400"/>
              <a:ext cx="2971800" cy="262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2"/>
            <a:stretch/>
          </p:blipFill>
          <p:spPr>
            <a:xfrm>
              <a:off x="3179880" y="950760"/>
              <a:ext cx="2763720" cy="2478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0B3FF-7189-4032-AEB3-07F85A74B852}" type="slidenum">
              <a:t>1</a:t>
            </a:fld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189000" y="1486080"/>
          <a:ext cx="8764560" cy="46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1486080"/>
                    <a:ext cx="8764560" cy="46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343080" y="228600"/>
            <a:ext cx="8458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Do you use State Road 429 for commuting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94640" y="6292800"/>
            <a:ext cx="27320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285 Wekiwa Area Resi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2BFF-1328-4C2B-BC4A-97B47F2BA52A}" type="slidenum">
              <a:t>10</a:t>
            </a:fld>
          </a:p>
        </p:txBody>
      </p:sp>
    </p:spTree>
  </p:cSld>
  <p:transition>
    <p:randomBa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189000" y="1371600"/>
          <a:ext cx="8764560" cy="465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9000" y="1371600"/>
                    <a:ext cx="8764560" cy="46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43080" y="228600"/>
            <a:ext cx="8458200" cy="94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6600"/>
                </a:solidFill>
                <a:latin typeface="Arial"/>
              </a:rPr>
              <a:t>Do you support construction of an Expressway north of Apopka as an alternative to U.S. 441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011320" y="6172200"/>
            <a:ext cx="512136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1,004 respondents who are familiar with State Road 4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C9FAA-26A1-413D-BACA-763F9EFEE3E7}" type="slidenum">
              <a:t>11</a:t>
            </a:fld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Overview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Survey managed by Dr. Evan Berman of the University of Central Florida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1,750 random interviews conducted by phone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Interviews handled by independent surveying firm in St. Loui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esults presented today are preliminary and represent 1,466 response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Precise results will be available in a few weeks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marL="343080" indent="0">
              <a:lnSpc>
                <a:spcPct val="115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980B9-3DC4-4D29-9438-57D59AA0F7CB}" type="slidenum">
              <a:t>2</a:t>
            </a:fld>
          </a:p>
        </p:txBody>
      </p:sp>
    </p:spTree>
  </p:cSld>
  <p:transition>
    <p:randomBa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Preliminary Result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98.6% of respondents say they understand where the proposed Western Beltway would go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68.5% say they are familiar with State Road 46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2ADFF-15AE-4B86-BAD3-423E79A3507E}" type="slidenum">
              <a:t>3</a:t>
            </a:fld>
          </a:p>
        </p:txBody>
      </p:sp>
    </p:spTree>
  </p:cSld>
  <p:transition>
    <p:randomBa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66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6553080" cy="990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9933"/>
                </a:solidFill>
                <a:latin typeface="Arial"/>
              </a:rPr>
              <a:t>Preliminary Results</a:t>
            </a:r>
            <a:endParaRPr b="1" lang="en-US" sz="3600" spc="-1" strike="noStrike">
              <a:solidFill>
                <a:srgbClr val="ff99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15000"/>
              </a:lnSpc>
              <a:spcBef>
                <a:spcPts val="1199"/>
              </a:spcBef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Western Beltway</a:t>
            </a:r>
            <a:endParaRPr b="1" lang="en-US" sz="32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76.3% of Central Florida residents support completing the Beltway around Orlando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1049"/>
              </a:spcBef>
              <a:buClr>
                <a:srgbClr val="ffff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54.7% of Central Florida residents and 72.5% of Wekiwa area residents say they would use the Western Beltway if it were built between between Apopka and Sanford</a:t>
            </a:r>
            <a:endParaRPr b="1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A3A73-20F3-41B2-BFF8-12DF20FD9F97}" type="slidenum">
              <a:t>4</a:t>
            </a:fld>
          </a:p>
        </p:txBody>
      </p:sp>
    </p:spTree>
  </p:cSld>
  <p:transition>
    <p:randomBa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85760" y="1716120"/>
          <a:ext cx="8772480" cy="50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1716120"/>
                    <a:ext cx="877248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343080" y="228600"/>
            <a:ext cx="84582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00"/>
                </a:solidFill>
                <a:latin typeface="Arial"/>
              </a:rPr>
              <a:t>Do you favor building the Western Beltway across the Wekiwa River if adequate steps are taken to protect the rive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DB155-F67B-41E7-A93B-1F93B8B5434B}" type="slidenum">
              <a:t>5</a:t>
            </a:fld>
          </a:p>
        </p:txBody>
      </p:sp>
    </p:spTree>
  </p:cSld>
  <p:transition>
    <p:randomBa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85760" y="1601640"/>
          <a:ext cx="8772480" cy="50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760" y="1601640"/>
                    <a:ext cx="8772480" cy="50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343080" y="228600"/>
            <a:ext cx="8458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Do you support widening State Road 46 across the Wekiwa Riv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1A7D8-8EB4-4B3E-B78E-815EC219CA09}" type="slidenum">
              <a:t>6</a:t>
            </a:fld>
          </a:p>
        </p:txBody>
      </p:sp>
    </p:spTree>
  </p:cSld>
  <p:transition>
    <p:randomBa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157320" y="1486080"/>
          <a:ext cx="8764560" cy="46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486080"/>
                    <a:ext cx="8764560" cy="46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343080" y="228600"/>
            <a:ext cx="8458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I support environmental interest groups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45080" y="6292800"/>
            <a:ext cx="166068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All Respon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46FB2-5A57-4EEA-9FC6-4F2789D49C6E}" type="slidenum">
              <a:t>7</a:t>
            </a:fld>
          </a:p>
        </p:txBody>
      </p:sp>
    </p:spTree>
  </p:cSld>
  <p:transition>
    <p:randomBa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" name=""/>
          <p:cNvGraphicFramePr/>
          <p:nvPr/>
        </p:nvGraphicFramePr>
        <p:xfrm>
          <a:off x="157320" y="1486080"/>
          <a:ext cx="8764560" cy="465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486080"/>
                    <a:ext cx="8764560" cy="465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343080" y="228600"/>
            <a:ext cx="8458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Do you believe growth will occur if no new roads are built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7880" y="6292800"/>
            <a:ext cx="79682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No significant difference between Wekiwa Area residents and Central Florida resi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5608-6B6D-4D8D-BB49-DEFC4DDA6474}" type="slidenum">
              <a:t>8</a:t>
            </a:fld>
          </a:p>
        </p:txBody>
      </p:sp>
    </p:spTree>
  </p:cSld>
  <p:transition>
    <p:randomBa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660066"/>
            </a:gs>
            <a:gs pos="100000">
              <a:srgbClr val="cc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57320" y="1487520"/>
          <a:ext cx="8764560" cy="464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7320" y="1487520"/>
                    <a:ext cx="8764560" cy="464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343080" y="228600"/>
            <a:ext cx="84582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6600"/>
                </a:solidFill>
                <a:latin typeface="Arial"/>
              </a:rPr>
              <a:t>We should build roads to keep up with growth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87880" y="6292800"/>
            <a:ext cx="7968240" cy="3373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9933"/>
                </a:solidFill>
                <a:latin typeface="Arial"/>
              </a:rPr>
              <a:t>No significant difference between Wekiwa Area residents and Central Florida resid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1657E-3CAE-4836-9163-27E0333FFB33}" type="slidenum">
              <a:t>9</a:t>
            </a:fld>
          </a:p>
        </p:txBody>
      </p:sp>
    </p:spTree>
  </p:cSld>
  <p:transition>
    <p:randomBa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15:14:50Z</dcterms:created>
  <dc:creator>Orlando-Orange County Express</dc:creator>
  <dc:description/>
  <cp:keywords/>
  <dc:language>en-US</dc:language>
  <cp:lastModifiedBy>berman</cp:lastModifiedBy>
  <cp:lastPrinted>1999-12-14T16:18:19Z</cp:lastPrinted>
  <dcterms:modified xsi:type="dcterms:W3CDTF">2006-08-11T14:24:59Z</dcterms:modified>
  <cp:revision>131</cp:revision>
  <dc:subject/>
  <dc:title>Credit Presentation</dc:title>
</cp:coreProperties>
</file>